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5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67B3-C794-4F06-A498-B5E081E6B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B025-5808-4785-AF17-C42EAEADD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A20-EDF8-4F12-8DD2-3D22955C16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915D-6BF6-49F0-9697-84700633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E43-0755-49FC-BD54-5AC7917E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546-E5B0-405A-822A-F357478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8F9-DE9C-458A-B144-0681BF0F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1C3-873F-469B-B0ED-1902A10A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1329-5C8E-4094-B0AB-582EDE37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4AB-BFC9-4914-8896-D36CE37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C888-2650-4B1A-9E63-26F1D2E1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D867-1BE3-45A5-93B6-B73D1AB7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13E-DE8E-4BFC-859B-D4BF5841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01A-42FE-48B6-8BC4-B07E34C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9E0-A0D0-4B6F-B583-32AAB98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C67-F186-4FF5-8BE0-2872B4B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5C38-6737-44B0-8A16-FABD4CA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0BD-60DB-4CBE-9638-9C9A757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64E6-4AE4-4302-8C34-781BE1D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FB2A-FF18-4D74-A0FB-353C7263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848F-17C3-4F98-969B-D2C9FC09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DD2-AAD0-4A87-AE07-85A0CEFC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F62-5BEF-4AB2-A1E5-8A830125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2BB-B419-492C-B1DF-B9CB0E8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437-2862-41B1-935A-CD4118A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934-61B7-48E8-B8D5-9DA9AA3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D67-0244-48FD-93AA-EC6E912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75B-283C-40D3-9395-6F0FEF5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9313-49B6-46E3-B377-6549692315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0E45-8409-4FC9-A569-27891731B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3CE-9827-4233-A072-5412B2F18C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0" y="0"/>
            <a:ext cx="9144000" cy="6858360"/>
            <a:chOff x="0" y="0"/>
            <a:chExt cx="9144000" cy="6858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3981600" y="0"/>
              <a:ext cx="5162400" cy="68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228600" y="30456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anuel (1995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ric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lab boundary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gradient 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k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L paramete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drag coefficient (moment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enthalpy coef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6"/>
                <p:cNvSpPr txBox="1"/>
                <p:nvPr/>
              </p:nvSpPr>
              <p:spPr>
                <a:xfrm>
                  <a:off x="228600" y="3657600"/>
                  <a:ext cx="36036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(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/>
                      </m:sSubSup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7"/>
                <p:cNvSpPr txBox="1"/>
                <p:nvPr/>
              </p:nvSpPr>
              <p:spPr>
                <a:xfrm>
                  <a:off x="0" y="4648320"/>
                  <a:ext cx="38862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q</m:t>
                      </m:r>
                      <m:r>
                        <m:t xml:space="preserve">]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" name="Text Box 10"/>
            <p:cNvSpPr/>
            <p:nvPr/>
          </p:nvSpPr>
          <p:spPr>
            <a:xfrm>
              <a:off x="457200" y="4876920"/>
              <a:ext cx="2971800" cy="16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~ 1.2 –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&gt; 0.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MATLAB7\work\Model\HWRF\Bill2009\BILL03L.2009081600\Bill2009081600_track.tif"/>
          <p:cNvPicPr/>
          <p:nvPr/>
        </p:nvPicPr>
        <p:blipFill>
          <a:blip r:embed="rId1"/>
          <a:stretch/>
        </p:blipFill>
        <p:spPr>
          <a:xfrm>
            <a:off x="152280" y="0"/>
            <a:ext cx="4761000" cy="373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MATLAB7\work\Model\HWRF\Bill2009\BILL03L.2009081600\Bill2009081600_intensity.tif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5105520" y="3241800"/>
            <a:ext cx="3243240" cy="361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MATLAB7\work\Model\HWRF\Bill2009\BILL03L.2009081600\u10map.tif"/>
          <p:cNvPicPr/>
          <p:nvPr/>
        </p:nvPicPr>
        <p:blipFill>
          <a:blip r:embed="rId4"/>
          <a:stretch/>
        </p:blipFill>
        <p:spPr>
          <a:xfrm>
            <a:off x="45720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Picture 2" descr="C:\MATLAB7\work\Model\HWRF\Bill2009\Dropsonde\analysis\track_sonde_loc_0819.t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67080" cy="32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C:\MATLAB7\work\Model\HWRF\Bill2009\Dropsonde\analysis\q_0819.tif"/>
            <p:cNvPicPr/>
            <p:nvPr/>
          </p:nvPicPr>
          <p:blipFill>
            <a:blip r:embed="rId2"/>
            <a:stretch/>
          </p:blipFill>
          <p:spPr>
            <a:xfrm>
              <a:off x="4495680" y="3367080"/>
              <a:ext cx="46483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MATLAB7\work\Model\HWRF\Bill2009\Dropsonde\analysis\ws_0819.tif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343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C:\MATLAB7\work\Model\HWRF\Bill2009\Dropsonde\analysis\theta_0819.tif"/>
            <p:cNvPicPr/>
            <p:nvPr/>
          </p:nvPicPr>
          <p:blipFill>
            <a:blip r:embed="rId4"/>
            <a:stretch/>
          </p:blipFill>
          <p:spPr>
            <a:xfrm>
              <a:off x="4495680" y="0"/>
              <a:ext cx="446580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1"/>
          <p:cNvGrpSpPr/>
          <p:nvPr/>
        </p:nvGrpSpPr>
        <p:grpSpPr>
          <a:xfrm>
            <a:off x="0" y="0"/>
            <a:ext cx="8915400" cy="6781680"/>
            <a:chOff x="0" y="0"/>
            <a:chExt cx="8915400" cy="6781680"/>
          </a:xfrm>
        </p:grpSpPr>
        <p:pic>
          <p:nvPicPr>
            <p:cNvPr id="175" name="Picture 10" descr="C:\MATLAB7\work\Model\HWRF\Bill2009\BILL03L.2009081600\T10_dist.tif"/>
            <p:cNvPicPr/>
            <p:nvPr/>
          </p:nvPicPr>
          <p:blipFill>
            <a:blip r:embed="rId1"/>
            <a:stretch/>
          </p:blipFill>
          <p:spPr>
            <a:xfrm>
              <a:off x="15228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C:\MATLAB7\work\Model\HWRF\Bill2009\BILL03L.2009081600\q10_dist.tif"/>
            <p:cNvPicPr/>
            <p:nvPr/>
          </p:nvPicPr>
          <p:blipFill>
            <a:blip r:embed="rId2"/>
            <a:stretch/>
          </p:blipFill>
          <p:spPr>
            <a:xfrm>
              <a:off x="4648320" y="3581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MATLAB7\work\Model\HWRF\Bill2009\BILL03L.2009081600\T10_dist_sonde.t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704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C:\MATLAB7\work\Model\HWRF\Bill2009\BILL03L.2009081600\q10_dist_sonde.tif"/>
            <p:cNvPicPr/>
            <p:nvPr/>
          </p:nvPicPr>
          <p:blipFill>
            <a:blip r:embed="rId4"/>
            <a:stretch/>
          </p:blipFill>
          <p:spPr>
            <a:xfrm>
              <a:off x="4267080" y="152280"/>
              <a:ext cx="43689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228600" y="0"/>
            <a:ext cx="8763120" cy="6705720"/>
            <a:chOff x="228600" y="0"/>
            <a:chExt cx="8763120" cy="6705720"/>
          </a:xfrm>
        </p:grpSpPr>
        <p:pic>
          <p:nvPicPr>
            <p:cNvPr id="181" name="Picture 6" descr="C:\MATLAB7\work\Model\HWRF\Bill2009\BILL03L.2009081600\dltT_dist.tif"/>
            <p:cNvPicPr/>
            <p:nvPr/>
          </p:nvPicPr>
          <p:blipFill>
            <a:blip r:embed="rId1"/>
            <a:stretch/>
          </p:blipFill>
          <p:spPr>
            <a:xfrm>
              <a:off x="441972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" descr="C:\MATLAB7\work\Model\HWRF\Bill2009\BILL03L.2009081600\sst_dist.tif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C:\MATLAB7\work\Model\HWRF\Bill2009\BILL03L.2009081600\q0_dist.tif"/>
            <p:cNvPicPr/>
            <p:nvPr/>
          </p:nvPicPr>
          <p:blipFill>
            <a:blip r:embed="rId3"/>
            <a:stretch/>
          </p:blipFill>
          <p:spPr>
            <a:xfrm>
              <a:off x="22860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C:\MATLAB7\work\Model\HWRF\Bill2009\BILL03L.2009081600\dltQ_dist.tif"/>
            <p:cNvPicPr/>
            <p:nvPr/>
          </p:nvPicPr>
          <p:blipFill>
            <a:blip r:embed="rId4"/>
            <a:stretch/>
          </p:blipFill>
          <p:spPr>
            <a:xfrm>
              <a:off x="4495680" y="3353040"/>
              <a:ext cx="447048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C:\MATLAB7\work\Model\HWRF\Bill2009\BILL03L.2009081600\rzmean_rh.jpg"/>
          <p:cNvPicPr/>
          <p:nvPr/>
        </p:nvPicPr>
        <p:blipFill>
          <a:blip r:embed="rId1"/>
          <a:stretch/>
        </p:blipFill>
        <p:spPr>
          <a:xfrm>
            <a:off x="152280" y="380880"/>
            <a:ext cx="4419720" cy="3532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MATLAB7\work\Model\HWRF\Bill2009\BILL03L.2009081600\cross_rh.jpg"/>
          <p:cNvPicPr/>
          <p:nvPr/>
        </p:nvPicPr>
        <p:blipFill>
          <a:blip r:embed="rId2"/>
          <a:stretch/>
        </p:blipFill>
        <p:spPr>
          <a:xfrm>
            <a:off x="4876920" y="2514600"/>
            <a:ext cx="3581280" cy="3892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152388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 mea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571500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233360" y="38098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al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 rot="16200000">
            <a:off x="-361800" y="189000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6200000">
            <a:off x="4285800" y="42523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796360" y="64008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W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MATLAB7\work\Papers\Now\Mean_HBL_Struc\Figure5.tif"/>
          <p:cNvPicPr/>
          <p:nvPr/>
        </p:nvPicPr>
        <p:blipFill>
          <a:blip r:embed="rId1"/>
          <a:stretch/>
        </p:blipFill>
        <p:spPr>
          <a:xfrm>
            <a:off x="152280" y="914400"/>
            <a:ext cx="4496040" cy="5681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724280" y="1143000"/>
            <a:ext cx="4267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Idealized simulations to do sensitivity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case studies such as Bill, evaluating the boundary layer and surface laye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model outputs with observations in the composite analysis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808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990720" y="228600"/>
            <a:ext cx="8381880" cy="6246720"/>
            <a:chOff x="990720" y="228600"/>
            <a:chExt cx="8381880" cy="6246720"/>
          </a:xfrm>
        </p:grpSpPr>
        <mc:AlternateContent>
          <mc:Choice xmlns:a14="http://schemas.microsoft.com/office/drawing/2010/main" Requires="a14">
            <p:sp>
              <p:nvSpPr>
                <p:cNvPr id="105" name="Object 2"/>
                <p:cNvSpPr txBox="1"/>
                <p:nvPr/>
              </p:nvSpPr>
              <p:spPr>
                <a:xfrm>
                  <a:off x="1905120" y="4114800"/>
                  <a:ext cx="41907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z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3"/>
                <p:cNvSpPr txBox="1"/>
                <p:nvPr/>
              </p:nvSpPr>
              <p:spPr>
                <a:xfrm>
                  <a:off x="1828800" y="5029200"/>
                  <a:ext cx="67057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H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4"/>
                <p:cNvSpPr txBox="1"/>
                <p:nvPr/>
              </p:nvSpPr>
              <p:spPr>
                <a:xfrm>
                  <a:off x="1828800" y="5867640"/>
                  <a:ext cx="65530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E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Text Box 13"/>
            <p:cNvSpPr/>
            <p:nvPr/>
          </p:nvSpPr>
          <p:spPr>
            <a:xfrm>
              <a:off x="990720" y="22860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urface Fluxes and Parameteriz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5"/>
                <p:cNvSpPr txBox="1"/>
                <p:nvPr/>
              </p:nvSpPr>
              <p:spPr>
                <a:xfrm>
                  <a:off x="1892160" y="1218960"/>
                  <a:ext cx="505440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u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v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ρu</m:t>
                          </m:r>
                        </m:e>
                        <m:sub/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6"/>
                <p:cNvSpPr txBox="1"/>
                <p:nvPr/>
              </p:nvSpPr>
              <p:spPr>
                <a:xfrm>
                  <a:off x="1905120" y="2209680"/>
                  <a:ext cx="56386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T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r>
                            <m:t xml:space="preserve">∂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7"/>
                <p:cNvSpPr txBox="1"/>
                <p:nvPr/>
              </p:nvSpPr>
              <p:spPr>
                <a:xfrm>
                  <a:off x="1905120" y="3200400"/>
                  <a:ext cx="54100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q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Line 17"/>
          <p:cNvSpPr/>
          <p:nvPr/>
        </p:nvSpPr>
        <p:spPr>
          <a:xfrm>
            <a:off x="2057400" y="1981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198108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905120" y="28954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00200" y="152280"/>
            <a:ext cx="6477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M5 simulation of Hurricane Bo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raun-Tao-Fig3"/>
          <p:cNvPicPr/>
          <p:nvPr/>
        </p:nvPicPr>
        <p:blipFill>
          <a:blip r:embed="rId1"/>
          <a:stretch/>
        </p:blipFill>
        <p:spPr>
          <a:xfrm>
            <a:off x="762120" y="1066680"/>
            <a:ext cx="5076720" cy="5438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095880" y="1295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un and 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248520" y="19810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itivity to boundary-layer parame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19920" y="3657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Wingdings 3"/>
                <a:ea typeface="Wingdings 3"/>
              </a:rPr>
              <a:t>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Skillful prediction of intensity change requires an accurate representation of the boundary layer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  <a:ea typeface="宋体"/>
              </a:rPr>
              <a:t> and parameterization of surface fluxes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Snap19.jpg"/>
          <p:cNvPicPr/>
          <p:nvPr/>
        </p:nvPicPr>
        <p:blipFill>
          <a:blip r:embed="rId1"/>
          <a:stretch/>
        </p:blipFill>
        <p:spPr>
          <a:xfrm>
            <a:off x="733320" y="490680"/>
            <a:ext cx="7677360" cy="5876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96760" y="12193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 un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894760" y="2057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653720" y="44197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M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932080" y="373392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Burk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320880" y="33526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Black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962680" y="411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118840" y="48006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unmod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934320" y="5867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Roge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F Simulation of Hurricane Is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Picture1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533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lan, Zhang, Stern, 2009 M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10552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well et al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36" name="Picture 5" descr="cd"/>
            <p:cNvPicPr/>
            <p:nvPr/>
          </p:nvPicPr>
          <p:blipFill>
            <a:blip r:embed="rId1"/>
            <a:stretch/>
          </p:blipFill>
          <p:spPr>
            <a:xfrm>
              <a:off x="228600" y="3429000"/>
              <a:ext cx="3985200" cy="30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676520" y="57150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elan et al. 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wessex1a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358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1371600" y="75960"/>
              <a:ext cx="304812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EC Data from 8 field experiments : AGILE, AWE, ETCH,GASEX,HEXOS,RASEX, SHOWEX, SWADE, WAV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4322 pts).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—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mith (198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3" descr="C:\MATLAB7\work\Model\HWRF\Bill2009\BILL03L.2009081600\Cd_u10_hwrfx.tif"/>
            <p:cNvPicPr/>
            <p:nvPr/>
          </p:nvPicPr>
          <p:blipFill>
            <a:blip r:embed="rId3"/>
            <a:stretch/>
          </p:blipFill>
          <p:spPr>
            <a:xfrm>
              <a:off x="4496040" y="2874240"/>
              <a:ext cx="4654440" cy="39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" descr="2"/>
            <p:cNvPicPr/>
            <p:nvPr/>
          </p:nvPicPr>
          <p:blipFill>
            <a:blip r:embed="rId4"/>
            <a:stretch/>
          </p:blipFill>
          <p:spPr>
            <a:xfrm>
              <a:off x="4420080" y="0"/>
              <a:ext cx="4038840" cy="299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743200" y="228600"/>
            <a:ext cx="19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-3    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 2.5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0" y="0"/>
            <a:ext cx="9077400" cy="6858000"/>
            <a:chOff x="0" y="0"/>
            <a:chExt cx="9077400" cy="6858000"/>
          </a:xfrm>
        </p:grpSpPr>
        <p:grpSp>
          <p:nvGrpSpPr>
            <p:cNvPr id="144" name="Group 16"/>
            <p:cNvGrpSpPr/>
            <p:nvPr/>
          </p:nvGrpSpPr>
          <p:grpSpPr>
            <a:xfrm>
              <a:off x="0" y="0"/>
              <a:ext cx="9077400" cy="6858000"/>
              <a:chOff x="0" y="0"/>
              <a:chExt cx="9077400" cy="6858000"/>
            </a:xfrm>
          </p:grpSpPr>
          <p:pic>
            <p:nvPicPr>
              <p:cNvPr id="145" name="Picture 2" descr="Cevsu10_lessthan20ms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115160" cy="30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Rectangle 3"/>
              <p:cNvSpPr/>
              <p:nvPr/>
            </p:nvSpPr>
            <p:spPr>
              <a:xfrm>
                <a:off x="457200" y="152280"/>
                <a:ext cx="47170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O  AGILE    (Donelan &amp; Drennan 1995)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X  HEXOS  (DeCosmo et al 1996)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◊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ASEX  (McGillis et al 200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OWEX (Banner et al 199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</a:rPr>
                  <a:t>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DE  (Katsaros et al 199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072600"/>
                <a:ext cx="5563080" cy="37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13"/>
              <p:cNvSpPr/>
              <p:nvPr/>
            </p:nvSpPr>
            <p:spPr>
              <a:xfrm>
                <a:off x="685800" y="3048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CBLAS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Picture 6" descr="C:\MATLAB7\work\Model\HWRF\Bill2009\BILL03L.2009081600\Ce_u10_hwrfx.tif"/>
              <p:cNvPicPr/>
              <p:nvPr/>
            </p:nvPicPr>
            <p:blipFill>
              <a:blip r:embed="rId3"/>
              <a:stretch/>
            </p:blipFill>
            <p:spPr>
              <a:xfrm>
                <a:off x="4420080" y="0"/>
                <a:ext cx="4657320" cy="37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15"/>
              <p:cNvSpPr/>
              <p:nvPr/>
            </p:nvSpPr>
            <p:spPr>
              <a:xfrm>
                <a:off x="1752480" y="3352680"/>
                <a:ext cx="25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(Drennan et al. 2007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11"/>
            <p:cNvSpPr/>
            <p:nvPr/>
          </p:nvSpPr>
          <p:spPr>
            <a:xfrm>
              <a:off x="5487120" y="4572000"/>
              <a:ext cx="3505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Zhang, Black, French and Drennan, 2008: 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First direct measurements of enthalpy flux in the hurricane boundary layer: the CBLAST results. </a:t>
              </a: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Geophys. Res. Lett.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1014b0"/>
                  </a:solidFill>
                  <a:latin typeface="Calibri"/>
                </a:rPr>
                <a:t>35,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 L14813,  oi:10.1029/2008GL03437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coefficient for sensible heat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C:\MATLAB7\work\Model\HWRF\Bill2009\BILL03L.2009081600\sfxmap.tif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MATLAB7\work\Model\HWRF\Bill2009\BILL03L.2009081600\delTmap.tif"/>
          <p:cNvPicPr/>
          <p:nvPr/>
        </p:nvPicPr>
        <p:blipFill>
          <a:blip r:embed="rId2"/>
          <a:stretch/>
        </p:blipFill>
        <p:spPr>
          <a:xfrm>
            <a:off x="4675320" y="3429000"/>
            <a:ext cx="446868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MATLAB7\work\Model\HWRF\Bill2009\BILL03L.2009081600\Chmap.tif"/>
          <p:cNvPicPr/>
          <p:nvPr/>
        </p:nvPicPr>
        <p:blipFill>
          <a:blip r:embed="rId3"/>
          <a:stretch/>
        </p:blipFill>
        <p:spPr>
          <a:xfrm>
            <a:off x="0" y="17524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" descr="C:\MATLAB7\work\Model\HWRF\Bill2009\BILL03L.2009081600\u10map.tif"/>
          <p:cNvPicPr/>
          <p:nvPr/>
        </p:nvPicPr>
        <p:blipFill>
          <a:blip r:embed="rId1"/>
          <a:stretch/>
        </p:blipFill>
        <p:spPr>
          <a:xfrm>
            <a:off x="76320" y="95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MATLAB7\work\Model\HWRF\Bill2009\BILL03L.2009081600\Cdmap.tif"/>
          <p:cNvPicPr/>
          <p:nvPr/>
        </p:nvPicPr>
        <p:blipFill>
          <a:blip r:embed="rId2"/>
          <a:stretch/>
        </p:blipFill>
        <p:spPr>
          <a:xfrm>
            <a:off x="0" y="35812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Isaac Ginis\Desktop\Cd_Quadrant_scatter.jpg"/>
          <p:cNvPicPr/>
          <p:nvPr/>
        </p:nvPicPr>
        <p:blipFill>
          <a:blip r:embed="rId3"/>
          <a:stretch/>
        </p:blipFill>
        <p:spPr>
          <a:xfrm>
            <a:off x="4522680" y="838080"/>
            <a:ext cx="4621320" cy="3505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2"/>
          <p:cNvSpPr/>
          <p:nvPr/>
        </p:nvSpPr>
        <p:spPr>
          <a:xfrm>
            <a:off x="5105520" y="3581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Isaac Gi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18148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eparate wind speed induced asymmetry from wave effec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8580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094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410080" y="838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-Wave mode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8:37Z</dcterms:created>
  <dc:creator> </dc:creator>
  <dc:description/>
  <dc:language>en-US</dc:language>
  <cp:lastModifiedBy>Seminar</cp:lastModifiedBy>
  <dcterms:modified xsi:type="dcterms:W3CDTF">2009-10-15T14:50:41Z</dcterms:modified>
  <cp:revision>43</cp:revision>
  <dc:subject/>
  <dc:title>Slide 1</dc:title>
</cp:coreProperties>
</file>